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8.jpeg" ContentType="image/jpeg"/>
  <Override PartName="/ppt/media/image27.png" ContentType="image/png"/>
  <Override PartName="/ppt/media/image4.gif" ContentType="image/gif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9BA-7B01-4E74-B188-E70A41EE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226-9CE5-4817-91D6-AD4D931A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005-AD07-44EE-93C9-AAC0E283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28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176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480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28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176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49F-8087-422B-BC75-1F567EC3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1403-B6C5-4F01-A3D1-A1CB7312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94FE-3D98-470C-AF9D-ADAF6E10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24A1-1E84-4EE1-ABAE-09BD917A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7171-15A0-4A6D-AB8D-20302B20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31C6-01D4-497B-A67E-EDDF15F6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61920" y="137880"/>
            <a:ext cx="78264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090F-744E-4F10-A6C6-BA2A0EE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3647-FDBD-4838-80E1-02DCCB2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AD4-2EBC-41ED-A0B2-E19673EF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4508-052D-4358-87B1-DDF9831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5F51-226F-4B3D-8154-DD69A20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7604-6C8F-44C8-BB78-34DBEE9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BADB-983D-491B-A35B-94C2207C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8828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176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3480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8828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176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8573-C906-43F5-A6AF-758214E8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2EC-BAC5-441E-9EDD-99C3BD98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597-7829-4467-8AB7-CE5547FD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078-CC1F-4975-8BAF-3ECAC3BF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61920" y="137880"/>
            <a:ext cx="78264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63E-2D7A-45EB-BDC6-47BF8580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F81-DACD-4C7C-8D8E-393D63B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666-0025-42A1-B251-8D497BDE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731-AB7E-4D01-9227-3216F275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8" descr="C:\Documents and Settings\Rami\Desktop\Ramis Work\PresPro\Templates_07_July_2004\Biotech\JPGS\PPP_SBIOT_TXT_DNA_Struc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6440" y="66247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57200" y="6624720"/>
            <a:ext cx="289404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70760" y="66247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C282-1D1C-4AA3-93AA-5AB974B53B4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3" descr="C:\Documents and Settings\Rami\Desktop\Ramis Work\PresPro\Templates_07_July_2004\Biotech\JPGS\PPP_SBIOT_TLE_DNA_Struc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706800"/>
            <a:ext cx="1905120" cy="1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92400"/>
            <a:ext cx="2895840" cy="1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92400"/>
            <a:ext cx="1905120" cy="1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C19-6197-47D3-8051-BC298F7724F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800" spc="-1" strike="noStrike">
                <a:solidFill>
                  <a:srgbClr val="ffff66"/>
                </a:solidFill>
                <a:latin typeface="Arial"/>
              </a:rPr>
              <a:t>АНТИБИОТИЦИ</a:t>
            </a:r>
            <a:r>
              <a:rPr b="1" i="1" lang="en-US" sz="48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4800"/>
            </a:br>
            <a:r>
              <a:rPr b="1" i="1" lang="sr-CS" sz="4800" spc="-1" strike="noStrike">
                <a:solidFill>
                  <a:srgbClr val="ffff66"/>
                </a:solidFill>
                <a:latin typeface="Arial"/>
              </a:rPr>
              <a:t>У</a:t>
            </a:r>
            <a:r>
              <a:rPr b="1" i="1" lang="en-US" sz="48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4800"/>
            </a:br>
            <a:r>
              <a:rPr b="1" i="1" lang="sr-CS" sz="4800" spc="-1" strike="noStrike">
                <a:solidFill>
                  <a:srgbClr val="ffff66"/>
                </a:solidFill>
                <a:latin typeface="Arial"/>
              </a:rPr>
              <a:t>ТЕРАПИЈИ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r-CS" sz="4800" spc="-1" strike="noStrike">
                <a:solidFill>
                  <a:srgbClr val="ffff66"/>
                </a:solidFill>
                <a:latin typeface="Arial"/>
              </a:rPr>
              <a:t>ПАРОДОНТОПАТИЈ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КОНТРАИНДИКАЦИЈЕ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ЗА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600"/>
            </a:b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ПРИМЕНУ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АНТИБИО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817236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а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ам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ал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тибиотик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рист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ародонталног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опходн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нат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нтраинд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жељен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фек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547640" y="3428640"/>
            <a:ext cx="7345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нтраиндикациј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1680" indent="-3916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реостљивост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антибиотик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еосетљивост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ож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анифестоват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лаг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ид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осип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ртикари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ерматитис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шк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нафилактичн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акциј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ој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ог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ит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фатал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1680" indent="-3916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оштећења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хепатичног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бубрежног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ра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8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НАЧИНИ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ПРИМЕ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8181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личит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дикамен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моћ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опунск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војо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нцентрацијо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бијај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устављај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ст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атогених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икроорганизам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9280" y="2491920"/>
            <a:ext cx="428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системск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гингивалн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ечнос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одир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ародонталн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кив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џепов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еко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ерум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лока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исок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онцентрациј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ек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ародонталн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џеп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ез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жељени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фекат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истемск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дминист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74560" y="1413000"/>
            <a:ext cx="85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Pjer Foša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лечење лековима не даје терапијске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резултат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00720" y="184464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Антибиотици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могу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примењивати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332000" y="5084640"/>
            <a:ext cx="72723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Риз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азвој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зистентних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рст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актери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ојав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љивичних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лергијск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акциј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СИСТЕМСКА</a:t>
            </a:r>
            <a:r>
              <a:rPr b="1" i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600"/>
            </a:b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ПРИМЕНА</a:t>
            </a:r>
            <a:r>
              <a:rPr b="1" i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АНТИБИО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35160" y="1584000"/>
            <a:ext cx="3698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икробиолошк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али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мпириј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нов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линички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нак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59280" y="2636640"/>
            <a:ext cx="4284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Системска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антибиотска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терапиј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кључуј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онотерапиј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тронидазоло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етрациклиним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оксициклин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иноциклин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линдамицино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еницилино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ципрофлоксацином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тд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image0014"/>
          <p:cNvPicPr/>
          <p:nvPr/>
        </p:nvPicPr>
        <p:blipFill>
          <a:blip r:embed="rId1"/>
          <a:stretch/>
        </p:blipFill>
        <p:spPr>
          <a:xfrm>
            <a:off x="1403280" y="3500280"/>
            <a:ext cx="3048120" cy="285768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000"/>
                            </p:stCondLst>
                            <p:childTnLst>
                              <p:par>
                                <p:cTn id="4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13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МЕТРОНИДАЗО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920" y="1052640"/>
            <a:ext cx="417672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бактерицидни хемиотерапеутик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широки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пектар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еловањ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ротив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наеробних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бактериј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вид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аблет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раствор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обро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бсорбуј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јвиш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иво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лазм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1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а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м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г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љувачк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гингивалној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ечност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спех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ерапиј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одржав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еколико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сец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кон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завршен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ерапиј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мбинациј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тронидазол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моксицили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86080" y="1341000"/>
            <a:ext cx="4057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Дневн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доз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: 750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м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x 250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о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8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комбинацији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0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вак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е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x 250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о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8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700_dettaglio2_antibiotici-vademecum"/>
          <p:cNvPicPr/>
          <p:nvPr/>
        </p:nvPicPr>
        <p:blipFill>
          <a:blip r:embed="rId1"/>
          <a:stretch/>
        </p:blipFill>
        <p:spPr>
          <a:xfrm>
            <a:off x="5724360" y="3933720"/>
            <a:ext cx="2926080" cy="21942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5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6500"/>
                            </p:stCondLst>
                            <p:childTnLst>
                              <p:par>
                                <p:cTn id="56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ТЕТРАЦИКЛИ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32360" y="620640"/>
            <a:ext cx="396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бактериостатски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нтибиотик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роки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пектар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еловањ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Грам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озитивне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Грам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егативне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бактериј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нти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лагеназн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војств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редукциј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еструкције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кив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ресорпције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сти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ај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орално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локалн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ог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ћ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кивим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енталним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труктурам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ст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гингивалној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ечност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ефикасан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ерапиј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гресивн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ародонтопатиј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71640" y="907560"/>
            <a:ext cx="396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Дневн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доз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етрациклин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sr-CS" sz="2300" spc="-1" strike="noStrike">
                <a:solidFill>
                  <a:srgbClr val="ffff66"/>
                </a:solidFill>
                <a:latin typeface="Arial"/>
              </a:rPr>
              <a:t>гр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x 250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о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-6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дељ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доксицикл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x 200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о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в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дељ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миноцикл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x 100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о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в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дељ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images 2"/>
          <p:cNvPicPr/>
          <p:nvPr/>
        </p:nvPicPr>
        <p:blipFill>
          <a:blip r:embed="rId1"/>
          <a:srcRect l="8796" t="0" r="6047" b="16935"/>
          <a:stretch/>
        </p:blipFill>
        <p:spPr>
          <a:xfrm>
            <a:off x="2556000" y="5084640"/>
            <a:ext cx="2232000" cy="144792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000"/>
                            </p:stCondLst>
                            <p:childTnLst>
                              <p:par>
                                <p:cTn id="6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2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8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5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КЛИНДАМИЦ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489564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ериват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линкомици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ефикасан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ротив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Грам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егативних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к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бацил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остиж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јвишу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нцентрацију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рви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отприлике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кон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60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инут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ож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ћ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вим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кивим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ст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МН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леукоцитим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ежељен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ефект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псеудомембранозни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ко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укрштена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реакција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пеницилин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рист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ерапиј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тешке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форме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рефракторне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пародонталног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апсце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694480" y="1700280"/>
            <a:ext cx="3449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Дневн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доз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: 900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м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x 300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ериод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8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1482610597494b88b8279c9056995717_orig"/>
          <p:cNvPicPr/>
          <p:nvPr/>
        </p:nvPicPr>
        <p:blipFill>
          <a:blip r:embed="rId1"/>
          <a:stretch/>
        </p:blipFill>
        <p:spPr>
          <a:xfrm>
            <a:off x="5867280" y="3933720"/>
            <a:ext cx="2934000" cy="19764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6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6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6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6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6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6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6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6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6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6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8000"/>
                            </p:stCondLst>
                            <p:childTnLst>
                              <p:par>
                                <p:cTn id="7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6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6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6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6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6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6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8" nodeType="after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6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6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7500"/>
                            </p:stCondLst>
                            <p:childTnLst>
                              <p:par>
                                <p:cTn id="7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6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6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9500"/>
                            </p:stCondLst>
                            <p:childTnLst>
                              <p:par>
                                <p:cTn id="7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6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6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1500"/>
                            </p:stCondLst>
                            <p:childTnLst>
                              <p:par>
                                <p:cTn id="7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6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6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3500"/>
                            </p:stCondLst>
                            <p:childTnLst>
                              <p:par>
                                <p:cTn id="7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6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6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ОСТАЛИ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АНТИБИОТИЦ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584000"/>
            <a:ext cx="4176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66"/>
                </a:solidFill>
                <a:latin typeface="Arial"/>
              </a:rPr>
              <a:t>ПЕНИЦИ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елуј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озитивн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актер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Бипеницил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паренетерално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једном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дневно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периоду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10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да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олусинтетски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еници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6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сати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периоду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10 </a:t>
            </a:r>
            <a:r>
              <a:rPr b="1" lang="sr-CS" sz="1900" spc="-1" strike="noStrike">
                <a:solidFill>
                  <a:srgbClr val="ffffff"/>
                </a:solidFill>
                <a:latin typeface="Arial"/>
              </a:rPr>
              <a:t>да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зазив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лергијск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акциј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ртикариј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нафилактичк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шо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6080" y="1584000"/>
            <a:ext cx="40575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66"/>
                </a:solidFill>
                <a:latin typeface="Arial"/>
              </a:rPr>
              <a:t>ЦИПРОФЛОКСАЦ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фикасно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одир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оболел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ародонталн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остиж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ећ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онцентрациј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ингивално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флуид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го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еру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елуј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66"/>
                </a:solidFill>
                <a:latin typeface="Arial"/>
                <a:ea typeface="Arial"/>
              </a:rPr>
              <a:t>β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-</a:t>
            </a:r>
            <a:r>
              <a:rPr b="1" i="1" lang="sr-CS" sz="2800" spc="-1" strike="noStrike">
                <a:solidFill>
                  <a:srgbClr val="ffff66"/>
                </a:solidFill>
                <a:latin typeface="Arial"/>
                <a:ea typeface="Arial"/>
              </a:rPr>
              <a:t>ЛАКТАМ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(</a:t>
            </a:r>
            <a:r>
              <a:rPr b="1" i="1" lang="sr-CS" sz="2000" spc="-1" strike="noStrike">
                <a:solidFill>
                  <a:srgbClr val="ffff66"/>
                </a:solidFill>
                <a:latin typeface="Arial"/>
                <a:ea typeface="Arial"/>
              </a:rPr>
              <a:t>АМОКСИЦИЛИН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корист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с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терапиј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пародонтални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апсце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оказуј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истрибуциј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роз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кив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л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иск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онцентрациј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ингивалној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ч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0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8" nodeType="afterEffect" fill="hold" presetClass="entr" presetID="5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9000"/>
                            </p:stCondLst>
                            <p:childTnLst>
                              <p:par>
                                <p:cTn id="8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3000"/>
                            </p:stCondLst>
                            <p:childTnLst>
                              <p:par>
                                <p:cTn id="8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826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ЛОКАЛНА</a:t>
            </a:r>
            <a:r>
              <a:rPr b="1" i="1" lang="sr-Latn-CS" sz="3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ПРИМЕНА</a:t>
            </a:r>
            <a:r>
              <a:rPr b="1" i="1" lang="sr-Latn-CS" sz="3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АНТИБИОТИКА</a:t>
            </a:r>
            <a:r>
              <a:rPr b="0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окал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имена антибиотика у пародонталним џеповима може бити ефикасна допуна базично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ародонтопат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76000" y="4149360"/>
            <a:ext cx="727236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едност специфичне локалне терапије огледа се 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рже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еловањ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мањењу дозе лек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већању концентрације л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мањењу нежељених ефек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periodontitis001_b"/>
          <p:cNvPicPr/>
          <p:nvPr/>
        </p:nvPicPr>
        <p:blipFill>
          <a:blip r:embed="rId1"/>
          <a:stretch/>
        </p:blipFill>
        <p:spPr>
          <a:xfrm>
            <a:off x="5435640" y="2852640"/>
            <a:ext cx="2720880" cy="148932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70" name="Picture 6" descr="periodontitis001_a"/>
          <p:cNvPicPr/>
          <p:nvPr/>
        </p:nvPicPr>
        <p:blipFill>
          <a:blip r:embed="rId2"/>
          <a:stretch/>
        </p:blipFill>
        <p:spPr>
          <a:xfrm>
            <a:off x="1835280" y="2852640"/>
            <a:ext cx="2722320" cy="149076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50"/>
                            </p:stCondLst>
                            <p:childTnLst>
                              <p:par>
                                <p:cTn id="8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150"/>
                            </p:stCondLst>
                            <p:childTnLst>
                              <p:par>
                                <p:cTn id="8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950"/>
                            </p:stCondLst>
                            <p:childTnLst>
                              <p:par>
                                <p:cTn id="8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8150"/>
                            </p:stCondLst>
                            <p:childTnLst>
                              <p:par>
                                <p:cTn id="8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СИСТЕМИ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ЗА</a:t>
            </a:r>
            <a:r>
              <a:rPr b="1" i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КОНТРОЛИСАНО</a:t>
            </a:r>
            <a:r>
              <a:rPr b="1" i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ОСЛОБАЂАЊЕ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Л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75852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омогућавај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еловањ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хемиотерапеутског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редств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уж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временск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ериод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остиж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висок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иво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нцентрациј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ачно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одређеном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сту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тављај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ародонталн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џепове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осле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његове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обрад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00000" y="4436640"/>
            <a:ext cx="540072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јчешћ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ришћен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истем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4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етилен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винил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ацетатни (ЕВА)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систе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вискозни гелов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биолошко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разградљиви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систем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images 9"/>
          <p:cNvPicPr/>
          <p:nvPr/>
        </p:nvPicPr>
        <p:blipFill>
          <a:blip r:embed="rId1"/>
          <a:stretch/>
        </p:blipFill>
        <p:spPr>
          <a:xfrm>
            <a:off x="7667640" y="907920"/>
            <a:ext cx="1081080" cy="128268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75" name="Picture 6" descr="images 3"/>
          <p:cNvPicPr/>
          <p:nvPr/>
        </p:nvPicPr>
        <p:blipFill>
          <a:blip r:embed="rId2"/>
          <a:stretch/>
        </p:blipFill>
        <p:spPr>
          <a:xfrm>
            <a:off x="6372360" y="4653000"/>
            <a:ext cx="2046240" cy="17208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000"/>
                            </p:stCondLst>
                            <p:childTnLst>
                              <p:par>
                                <p:cTn id="9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2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6000"/>
                            </p:stCondLst>
                            <p:childTnLst>
                              <p:par>
                                <p:cTn id="9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8000"/>
                            </p:stCondLst>
                            <p:childTnLst>
                              <p:par>
                                <p:cTn id="9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4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66"/>
                </a:solidFill>
                <a:latin typeface="Arial"/>
              </a:rPr>
              <a:t>Етилен</a:t>
            </a: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sr-CS" sz="3400" spc="-1" strike="noStrike">
                <a:solidFill>
                  <a:srgbClr val="ffff66"/>
                </a:solidFill>
                <a:latin typeface="Arial"/>
              </a:rPr>
              <a:t>винил</a:t>
            </a: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sr-CS" sz="3400" spc="-1" strike="noStrike">
                <a:solidFill>
                  <a:srgbClr val="ffff66"/>
                </a:solidFill>
                <a:latin typeface="Arial"/>
              </a:rPr>
              <a:t>ацетатни (ЕВА)</a:t>
            </a: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66"/>
                </a:solidFill>
                <a:latin typeface="Arial"/>
              </a:rPr>
              <a:t>систем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трациклинско влакн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ебљина му је 0,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адрж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25% тетрацик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 разграђује с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безбеђује пролонгирану активност л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ластично и флексиби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вљ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е у пародонтални џеп и ту се задржава 10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екривањ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рист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ијаноакрилатни адхез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72000" y="1341000"/>
            <a:ext cx="3672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оводи до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редукције дубине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ародонталних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џепов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смањења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коронарног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омерања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нивоа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епителног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рипој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смањења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крварења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из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џепов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6" descr="actisite23.jpg"/>
          <p:cNvPicPr/>
          <p:nvPr/>
        </p:nvPicPr>
        <p:blipFill>
          <a:blip r:embed="rId1"/>
          <a:srcRect l="5309" t="6584" r="10617" b="10494"/>
          <a:stretch/>
        </p:blipFill>
        <p:spPr>
          <a:xfrm>
            <a:off x="5508720" y="4365720"/>
            <a:ext cx="2803320" cy="20876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000"/>
                            </p:stCondLst>
                            <p:childTnLst>
                              <p:par>
                                <p:cTn id="9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9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6000"/>
                            </p:stCondLst>
                            <p:childTnLst>
                              <p:par>
                                <p:cTn id="9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7000"/>
                            </p:stCondLst>
                            <p:childTnLst>
                              <p:par>
                                <p:cTn id="9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8000"/>
                            </p:stCondLst>
                            <p:childTnLst>
                              <p:par>
                                <p:cTn id="979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4" nodeType="afterEffect" fill="hold" presetClass="entr" presetID="2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989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61920" y="138240"/>
            <a:ext cx="782640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38912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ародонтална обољења су најчешћа инфламаторна обољења пародонта и она настају као хронична бактеријска инфе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днос домаћин - бактерије одређује природу и развој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360" y="4508640"/>
            <a:ext cx="39895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Обољење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резултује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деструкцији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меких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кив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коштане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структуре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ародонциј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pg05"/>
          <p:cNvPicPr/>
          <p:nvPr/>
        </p:nvPicPr>
        <p:blipFill>
          <a:blip r:embed="rId1"/>
          <a:srcRect l="0" t="2970" r="4863" b="1485"/>
          <a:stretch/>
        </p:blipFill>
        <p:spPr>
          <a:xfrm>
            <a:off x="5508720" y="1197000"/>
            <a:ext cx="2927160" cy="30258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66"/>
                </a:solidFill>
                <a:latin typeface="Arial"/>
              </a:rPr>
              <a:t>Етилен</a:t>
            </a: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sr-CS" sz="3400" spc="-1" strike="noStrike">
                <a:solidFill>
                  <a:srgbClr val="ffff66"/>
                </a:solidFill>
                <a:latin typeface="Arial"/>
              </a:rPr>
              <a:t>винил</a:t>
            </a: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sr-CS" sz="3400" spc="-1" strike="noStrike">
                <a:solidFill>
                  <a:srgbClr val="ffff66"/>
                </a:solidFill>
                <a:latin typeface="Arial"/>
              </a:rPr>
              <a:t>ацетатни (ЕВА)</a:t>
            </a: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66"/>
                </a:solidFill>
                <a:latin typeface="Arial"/>
              </a:rPr>
              <a:t>систем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35160" y="1584000"/>
            <a:ext cx="369864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гативност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накнадно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уклањање влака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дужина постављања влака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додатни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материјал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за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његово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рекривањ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76360" y="1916280"/>
            <a:ext cx="37004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спешн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рист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на локализованим рефракторним местим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у лечењу медицински компромитованих пацијената</a:t>
            </a:r>
            <a:r>
              <a:rPr b="0" lang="sr-CS" sz="21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7" descr="Actisite.jpg"/>
          <p:cNvPicPr/>
          <p:nvPr/>
        </p:nvPicPr>
        <p:blipFill>
          <a:blip r:embed="rId1"/>
          <a:srcRect l="5961" t="6584" r="5402" b="8642"/>
          <a:stretch/>
        </p:blipFill>
        <p:spPr>
          <a:xfrm>
            <a:off x="3925800" y="4799160"/>
            <a:ext cx="1855800" cy="163008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84" name="Picture 78" descr="actisite2.jpg"/>
          <p:cNvPicPr/>
          <p:nvPr/>
        </p:nvPicPr>
        <p:blipFill>
          <a:blip r:embed="rId2"/>
          <a:srcRect l="1942" t="6077" r="51830" b="9495"/>
          <a:stretch/>
        </p:blipFill>
        <p:spPr>
          <a:xfrm>
            <a:off x="901800" y="4799160"/>
            <a:ext cx="2808360" cy="15840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85" name="Picture 78" descr="actisite2.jpg"/>
          <p:cNvPicPr/>
          <p:nvPr/>
        </p:nvPicPr>
        <p:blipFill>
          <a:blip r:embed="rId3"/>
          <a:srcRect l="51769" t="6077" r="2003" b="9495"/>
          <a:stretch/>
        </p:blipFill>
        <p:spPr>
          <a:xfrm>
            <a:off x="6156360" y="4799160"/>
            <a:ext cx="2743200" cy="16002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61920" y="138240"/>
            <a:ext cx="782640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66"/>
                </a:solidFill>
                <a:latin typeface="Arial"/>
              </a:rPr>
              <a:t>Вискозни гелов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432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66"/>
                </a:solidFill>
                <a:latin typeface="Arial"/>
              </a:rPr>
              <a:t>ДЕНТОМИЦИН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г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7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2% миноциклин-хидрохлори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ктивност против субгингивалних бактериј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нтиинфламаторна активнос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нхибиторно деловање на колагеназну активнос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рипој фибробласта и везивног ткива за површину зуб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олази до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редукције дубине џеп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ема пребојености зуба, гингиве и околних меких ткив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7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92720" y="1557360"/>
            <a:ext cx="38512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66"/>
                </a:solidFill>
                <a:latin typeface="Arial"/>
              </a:rPr>
              <a:t>ЕЛИЗОЛ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г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25%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тронидазол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кон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орално-хигијенске процедур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обрад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џепов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пликује се преко шприц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већа концентрација лека за 50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64000" y="4869000"/>
            <a:ext cx="3780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66"/>
                </a:solidFill>
                <a:latin typeface="Arial"/>
              </a:rPr>
              <a:t>КЛИНДАМИЦИН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г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%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линдамиц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БИОЛОШКО</a:t>
            </a:r>
            <a:r>
              <a:rPr b="1" i="1" lang="en-US" sz="3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400"/>
            </a:b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РАЗГРАДЉИВИ</a:t>
            </a:r>
            <a:r>
              <a:rPr b="1" i="1" lang="en-US" sz="3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СИСТЕМ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икрокапсула пуњена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10% миноциклино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рекрива се пародонталним паковање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разарају ј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лизозоми у гингивалној течност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ослобађа се 7 дан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 ефекат траје 21 да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ем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аљих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ретман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 року од  6 недељ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ffffff"/>
                </a:solidFill>
                <a:latin typeface="Arial"/>
              </a:rPr>
              <a:t>Арестин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шприц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овијеним врхо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86080" y="1584000"/>
            <a:ext cx="37004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2" descr="Arestin StoryBoard - Copy.jpg"/>
          <p:cNvPicPr/>
          <p:nvPr/>
        </p:nvPicPr>
        <p:blipFill>
          <a:blip r:embed="rId1"/>
          <a:srcRect l="4118" t="10107" r="6177" b="10107"/>
          <a:stretch/>
        </p:blipFill>
        <p:spPr>
          <a:xfrm>
            <a:off x="4788000" y="2205000"/>
            <a:ext cx="2511360" cy="91116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94" name="Picture 84" descr="Arestin StoryBoard - Copy (3).jpg"/>
          <p:cNvPicPr/>
          <p:nvPr/>
        </p:nvPicPr>
        <p:blipFill>
          <a:blip r:embed="rId2"/>
          <a:srcRect l="4118" t="10217" r="6177" b="8621"/>
          <a:stretch/>
        </p:blipFill>
        <p:spPr>
          <a:xfrm>
            <a:off x="5292720" y="3282840"/>
            <a:ext cx="2511360" cy="91296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95" name="Picture 85" descr="Arestin StoryBoard - Copy (4).jpg"/>
          <p:cNvPicPr/>
          <p:nvPr/>
        </p:nvPicPr>
        <p:blipFill>
          <a:blip r:embed="rId3"/>
          <a:srcRect l="4219" t="10162" r="8042" b="9209"/>
          <a:stretch/>
        </p:blipFill>
        <p:spPr>
          <a:xfrm>
            <a:off x="6013440" y="4363920"/>
            <a:ext cx="2398680" cy="91296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96" name="Picture 86" descr="Arestin StoryBoard.jpg"/>
          <p:cNvPicPr/>
          <p:nvPr/>
        </p:nvPicPr>
        <p:blipFill>
          <a:blip r:embed="rId4"/>
          <a:srcRect l="4275" t="10107" r="6680" b="10107"/>
          <a:stretch/>
        </p:blipFill>
        <p:spPr>
          <a:xfrm>
            <a:off x="6516720" y="5516640"/>
            <a:ext cx="2400120" cy="91116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97" name="Picture 79" descr="arestin.jpg"/>
          <p:cNvPicPr/>
          <p:nvPr/>
        </p:nvPicPr>
        <p:blipFill>
          <a:blip r:embed="rId5"/>
          <a:srcRect l="4543" t="5797" r="5253" b="8152"/>
          <a:stretch/>
        </p:blipFill>
        <p:spPr>
          <a:xfrm>
            <a:off x="6948360" y="765000"/>
            <a:ext cx="1927440" cy="129708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БИОЛОШКО</a:t>
            </a:r>
            <a:r>
              <a:rPr b="1" i="1" lang="en-US" sz="3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400"/>
            </a:b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РАЗГРАДЉИВИ</a:t>
            </a:r>
            <a:r>
              <a:rPr b="1" i="1" lang="en-US" sz="3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СИСТЕМ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219280" y="1844280"/>
            <a:ext cx="3699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ffffff"/>
                </a:solidFill>
                <a:latin typeface="Arial"/>
              </a:rPr>
              <a:t>Atridox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ge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50 mg doksiciklin hiklata u vidu prah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акон обраде пародонталног џеп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аксимална концентрација у джепу и пљувачки два сата након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апликациј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испољава терапеутско дејство у року од 7 дан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4000" y="5157720"/>
            <a:ext cx="370044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87" descr="atrikdox.jpg"/>
          <p:cNvPicPr/>
          <p:nvPr/>
        </p:nvPicPr>
        <p:blipFill>
          <a:blip r:embed="rId1"/>
          <a:srcRect l="4478" t="5967" r="6717" b="2675"/>
          <a:stretch/>
        </p:blipFill>
        <p:spPr>
          <a:xfrm>
            <a:off x="2484360" y="1411200"/>
            <a:ext cx="2282760" cy="16020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202" name="Picture 88" descr="atrodox.jpg"/>
          <p:cNvPicPr/>
          <p:nvPr/>
        </p:nvPicPr>
        <p:blipFill>
          <a:blip r:embed="rId2"/>
          <a:srcRect l="1747" t="7433" r="53882" b="7227"/>
          <a:stretch/>
        </p:blipFill>
        <p:spPr>
          <a:xfrm>
            <a:off x="1187280" y="3213000"/>
            <a:ext cx="2286000" cy="148752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203" name="Picture 88" descr="atrodox.jpg"/>
          <p:cNvPicPr/>
          <p:nvPr/>
        </p:nvPicPr>
        <p:blipFill>
          <a:blip r:embed="rId3"/>
          <a:srcRect l="52345" t="8672" r="2516" b="6195"/>
          <a:stretch/>
        </p:blipFill>
        <p:spPr>
          <a:xfrm>
            <a:off x="2629080" y="5086440"/>
            <a:ext cx="2325600" cy="148428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БИОЛОШКО</a:t>
            </a:r>
            <a:r>
              <a:rPr b="1" i="1" lang="en-US" sz="3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400"/>
            </a:b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РАЗГРАДЉИВИ</a:t>
            </a:r>
            <a:r>
              <a:rPr b="1" i="1" lang="en-US" sz="3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СИСТЕМ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6920" y="1844280"/>
            <a:ext cx="7440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колаген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истем са биоресорптивним носаче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лоча 5x5 мм, од колагена тип И који садржи 5% метронидазол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врш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аљи третман за период од 3 месец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оводи до редукциј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нфламациј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рварењ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убине пародонталних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џепо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692360" y="5229000"/>
            <a:ext cx="70228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редност примене метронидазола је што још није приказана његова резистенција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док тетрациклини чешће дају резистенцију (нарочито миноциклин).</a:t>
            </a:r>
            <a:r>
              <a:rPr b="0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images 7"/>
          <p:cNvPicPr/>
          <p:nvPr/>
        </p:nvPicPr>
        <p:blipFill>
          <a:blip r:embed="rId1"/>
          <a:srcRect l="5670" t="10427" r="4016" b="19550"/>
          <a:stretch/>
        </p:blipFill>
        <p:spPr>
          <a:xfrm>
            <a:off x="6156360" y="3573360"/>
            <a:ext cx="2662200" cy="14972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0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5" nodeType="afterEffect" fill="hold" presetClass="entr" presetID="3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Periochi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5135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истем за локално ослобађање лек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2,5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г хлорхексидин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глукон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ада у биоресорптивне систем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овољна концентрација лека на оболелом месту у дужем временском периоду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одатн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тода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у терапији пародонтопатије где је дубина џепова већа од 5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м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елује 7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 да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смањује дубину џепова у трајању од 9 месеци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images 5"/>
          <p:cNvPicPr/>
          <p:nvPr/>
        </p:nvPicPr>
        <p:blipFill>
          <a:blip r:embed="rId1"/>
          <a:stretch/>
        </p:blipFill>
        <p:spPr>
          <a:xfrm>
            <a:off x="6516720" y="4581360"/>
            <a:ext cx="2160720" cy="18558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211" name="Picture 6" descr="images 10"/>
          <p:cNvPicPr/>
          <p:nvPr/>
        </p:nvPicPr>
        <p:blipFill>
          <a:blip r:embed="rId2"/>
          <a:stretch/>
        </p:blipFill>
        <p:spPr>
          <a:xfrm>
            <a:off x="7812000" y="2205000"/>
            <a:ext cx="1127160" cy="129528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212" name="Picture 7" descr="periochip01"/>
          <p:cNvPicPr/>
          <p:nvPr/>
        </p:nvPicPr>
        <p:blipFill>
          <a:blip r:embed="rId3"/>
          <a:srcRect l="13339" t="4446" r="0" b="6670"/>
          <a:stretch/>
        </p:blipFill>
        <p:spPr>
          <a:xfrm>
            <a:off x="6372360" y="1197000"/>
            <a:ext cx="1224000" cy="11286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213" name="Picture 8" descr="PerioChip 1"/>
          <p:cNvPicPr/>
          <p:nvPr/>
        </p:nvPicPr>
        <p:blipFill>
          <a:blip r:embed="rId4"/>
          <a:srcRect l="52791" t="12220" r="11896" b="12220"/>
          <a:stretch/>
        </p:blipFill>
        <p:spPr>
          <a:xfrm>
            <a:off x="1116000" y="4581360"/>
            <a:ext cx="2303640" cy="18180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214" name="Picture 9" descr="PerioChip 1"/>
          <p:cNvPicPr/>
          <p:nvPr/>
        </p:nvPicPr>
        <p:blipFill>
          <a:blip r:embed="rId5"/>
          <a:srcRect l="2788" t="7559" r="62828" b="9322"/>
          <a:stretch/>
        </p:blipFill>
        <p:spPr>
          <a:xfrm>
            <a:off x="3924360" y="4581360"/>
            <a:ext cx="2087640" cy="18608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400" spc="-1" strike="noStrike">
                <a:solidFill>
                  <a:srgbClr val="ffff66"/>
                </a:solidFill>
                <a:latin typeface="Arial"/>
              </a:rPr>
              <a:t>ЗАКЉУЧАК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7670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имен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нтибиотик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ерапиј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родонтопат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м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во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сто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рочито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амо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азичн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ал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вољн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езултат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рист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скључив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а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датн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ерапијск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цед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826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ип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268280"/>
            <a:ext cx="38880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Gingivit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ограниче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запаљењ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иниги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ародонтопатиј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енералн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нфламациј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пикалн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играциј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ипојно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пит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еструкциј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ародонтално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игамент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лвеоларн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dis"/>
          <p:cNvPicPr/>
          <p:nvPr/>
        </p:nvPicPr>
        <p:blipFill>
          <a:blip r:embed="rId1"/>
          <a:stretch/>
        </p:blipFill>
        <p:spPr>
          <a:xfrm>
            <a:off x="5651640" y="234936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ПОД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4105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Хронич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окализов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енерализов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Агресив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окализов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енерализов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ародонтопатија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удружена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са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системским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обољеним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ародонтопатија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удружена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са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ендодонтским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лезијама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Улцеро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некрозна</a:t>
            </a:r>
            <a:r>
              <a:rPr b="1" lang="sr-Latn-C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ародонтопатиј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6080" y="1584000"/>
            <a:ext cx="37004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IMG_0770"/>
          <p:cNvPicPr/>
          <p:nvPr/>
        </p:nvPicPr>
        <p:blipFill>
          <a:blip r:embed="rId1"/>
          <a:srcRect l="16377" t="24943" r="14613" b="10015"/>
          <a:stretch/>
        </p:blipFill>
        <p:spPr>
          <a:xfrm>
            <a:off x="5218200" y="1555920"/>
            <a:ext cx="3386160" cy="21272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96" name="Picture 6" descr="perio"/>
          <p:cNvPicPr/>
          <p:nvPr/>
        </p:nvPicPr>
        <p:blipFill>
          <a:blip r:embed="rId2"/>
          <a:srcRect l="5940" t="7559" r="7019" b="6872"/>
          <a:stretch/>
        </p:blipFill>
        <p:spPr>
          <a:xfrm>
            <a:off x="5292720" y="3933720"/>
            <a:ext cx="3311640" cy="25574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1920" y="333000"/>
            <a:ext cx="7826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ародонтална обољења су изазвана бактеријама које се налазе у оралном биофилму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24000" y="1844640"/>
            <a:ext cx="43927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Примарн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етиолошк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фактор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орални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биофил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руг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фактор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фактори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околин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генетска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66"/>
                </a:solidFill>
                <a:latin typeface="Arial"/>
              </a:rPr>
              <a:t>предиспозициј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8000" y="3428640"/>
            <a:ext cx="370044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Хиперпродукциј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дијатора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3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L-1</a:t>
            </a:r>
            <a:r>
              <a:rPr b="1" lang="el-GR" sz="21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, TNF-</a:t>
            </a:r>
            <a:r>
              <a:rPr b="1" lang="el-GR" sz="21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, prostaglandini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3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  <a:ea typeface="Arial"/>
              </a:rPr>
              <a:t>доводи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  <a:ea typeface="Arial"/>
              </a:rPr>
              <a:t>до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  <a:ea typeface="Arial"/>
              </a:rPr>
              <a:t>појав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  <a:ea typeface="Arial"/>
              </a:rPr>
              <a:t>хроничн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  <a:ea typeface="Arial"/>
              </a:rPr>
              <a:t>пародонтопатиј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66"/>
                </a:solidFill>
                <a:latin typeface="Arial"/>
                <a:ea typeface="Arial"/>
              </a:rPr>
              <a:t>активација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  <a:ea typeface="Arial"/>
              </a:rPr>
              <a:t>плазминогена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  <a:ea typeface="Arial"/>
              </a:rPr>
              <a:t>и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  <a:ea typeface="Arial"/>
              </a:rPr>
              <a:t>матрикс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-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  <a:ea typeface="Arial"/>
              </a:rPr>
              <a:t>металопротеиназ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plak 2"/>
          <p:cNvPicPr/>
          <p:nvPr/>
        </p:nvPicPr>
        <p:blipFill>
          <a:blip r:embed="rId1"/>
          <a:stretch/>
        </p:blipFill>
        <p:spPr>
          <a:xfrm>
            <a:off x="1476360" y="4076640"/>
            <a:ext cx="1655640" cy="119232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01" name="Picture 6" descr="razvoj parodontopatije"/>
          <p:cNvPicPr/>
          <p:nvPr/>
        </p:nvPicPr>
        <p:blipFill>
          <a:blip r:embed="rId2"/>
          <a:stretch/>
        </p:blipFill>
        <p:spPr>
          <a:xfrm>
            <a:off x="5867280" y="1197000"/>
            <a:ext cx="2016360" cy="216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mages[94]"/>
          <p:cNvPicPr/>
          <p:nvPr/>
        </p:nvPicPr>
        <p:blipFill>
          <a:blip r:embed="rId3"/>
          <a:stretch/>
        </p:blipFill>
        <p:spPr>
          <a:xfrm>
            <a:off x="3274920" y="5391000"/>
            <a:ext cx="1657440" cy="116532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САСТАВ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ОРАЛНОГ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БИОФИЛ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103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Aggregatibacter actinomycetemcomit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Porphyromonas gingiv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Tannerella forsyth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Treponema dentic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Fusobacterium nucle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Prevotell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Campylobacter rec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Eikenella corrode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76360" y="1557000"/>
            <a:ext cx="37004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иректна инвазиј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еловање својим ензимим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деловање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токсиним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img_tooth2"/>
          <p:cNvPicPr/>
          <p:nvPr/>
        </p:nvPicPr>
        <p:blipFill>
          <a:blip r:embed="rId1"/>
          <a:srcRect l="1965" t="2082" r="45064" b="2402"/>
          <a:stretch/>
        </p:blipFill>
        <p:spPr>
          <a:xfrm>
            <a:off x="4788000" y="3141720"/>
            <a:ext cx="2017440" cy="338436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sp>
        <p:nvSpPr>
          <p:cNvPr id="107" name="Line 6"/>
          <p:cNvSpPr/>
          <p:nvPr/>
        </p:nvSpPr>
        <p:spPr>
          <a:xfrm>
            <a:off x="680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6804000" y="342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6804000" y="3933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6804000" y="5805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6804000" y="5300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804000" y="5013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6804000" y="4508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7380360" y="3284640"/>
            <a:ext cx="17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ke i čvrste nasl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7380360" y="3789360"/>
            <a:ext cx="17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lamirana ginig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7308720" y="436572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čuvani nivo ko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7308720" y="486900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odontalni dž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7380360" y="5229360"/>
            <a:ext cx="17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pitelni pripo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7236000" y="5589720"/>
            <a:ext cx="19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akterije (štapići, koke, spirohete, spir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ТЕРАПИЈА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ПАРОДОНТОПАТ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8920" y="1268280"/>
            <a:ext cx="75852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рапијске процедуре треба да редукују етиолошке факторе који доводе до оштећења ткива и да омогуће репарацију и регенерацију изгубљених ткив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8000" y="2204640"/>
            <a:ext cx="3995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Базичн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клањањ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орално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иофил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лиминациј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ритирајући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факт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Симптоматска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хируршки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захвати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лиминаци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мањењ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убоких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ародонталних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џеп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укогингивалних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ођен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генераци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11"/>
          <p:cNvPicPr/>
          <p:nvPr/>
        </p:nvPicPr>
        <p:blipFill>
          <a:blip r:embed="rId1"/>
          <a:stretch/>
        </p:blipFill>
        <p:spPr>
          <a:xfrm>
            <a:off x="3348000" y="3092400"/>
            <a:ext cx="1655640" cy="13874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24" name="Picture 6" descr="images 9"/>
          <p:cNvPicPr/>
          <p:nvPr/>
        </p:nvPicPr>
        <p:blipFill>
          <a:blip r:embed="rId2"/>
          <a:stretch/>
        </p:blipFill>
        <p:spPr>
          <a:xfrm>
            <a:off x="1258920" y="2421000"/>
            <a:ext cx="1944720" cy="133488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25" name="Picture 7" descr="024"/>
          <p:cNvPicPr/>
          <p:nvPr/>
        </p:nvPicPr>
        <p:blipFill>
          <a:blip r:embed="rId3"/>
          <a:stretch/>
        </p:blipFill>
        <p:spPr>
          <a:xfrm>
            <a:off x="2268360" y="4724280"/>
            <a:ext cx="1366920" cy="10350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26" name="Picture 8" descr="022"/>
          <p:cNvPicPr/>
          <p:nvPr/>
        </p:nvPicPr>
        <p:blipFill>
          <a:blip r:embed="rId4"/>
          <a:stretch/>
        </p:blipFill>
        <p:spPr>
          <a:xfrm>
            <a:off x="1042920" y="3860640"/>
            <a:ext cx="1297080" cy="99396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27" name="Picture 9" descr="025"/>
          <p:cNvPicPr/>
          <p:nvPr/>
        </p:nvPicPr>
        <p:blipFill>
          <a:blip r:embed="rId5"/>
          <a:stretch/>
        </p:blipFill>
        <p:spPr>
          <a:xfrm>
            <a:off x="3492360" y="5516640"/>
            <a:ext cx="1368720" cy="10224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826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ТЕРАПИЈА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ПАРОДОНТОПАТ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26920" y="1585440"/>
            <a:ext cx="630252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ирулентн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гативн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икроорганиз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ародонталн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џепов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езивн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ки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ханичк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струментациј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тибиоти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 algn="ctr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редукција стварања оралног биофилм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 algn="ctr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ублажавање инфламације гингиве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 algn="ctr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успоравање процеса напредовањ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392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гингивитиса у пародонтопатиј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 algn="ctr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ffff"/>
                </a:solidFill>
                <a:latin typeface="Arial"/>
              </a:rPr>
              <a:t>фаворизовање оздрављењ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651640" y="2421000"/>
            <a:ext cx="217440" cy="574560"/>
          </a:xfrm>
          <a:prstGeom prst="downArrow">
            <a:avLst>
              <a:gd name="adj1" fmla="val 50000"/>
              <a:gd name="adj2" fmla="val 6606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651640" y="3716280"/>
            <a:ext cx="288720" cy="647640"/>
          </a:xfrm>
          <a:prstGeom prst="downArrow">
            <a:avLst>
              <a:gd name="adj1" fmla="val 50000"/>
              <a:gd name="adj2" fmla="val 5607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20080511-image001"/>
          <p:cNvPicPr/>
          <p:nvPr/>
        </p:nvPicPr>
        <p:blipFill>
          <a:blip r:embed="rId1"/>
          <a:stretch/>
        </p:blipFill>
        <p:spPr>
          <a:xfrm>
            <a:off x="1258920" y="2637000"/>
            <a:ext cx="1466640" cy="190476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33" name="Picture 7" descr="Integratori01_450Shutterstock"/>
          <p:cNvPicPr/>
          <p:nvPr/>
        </p:nvPicPr>
        <p:blipFill>
          <a:blip r:embed="rId2"/>
          <a:stretch/>
        </p:blipFill>
        <p:spPr>
          <a:xfrm>
            <a:off x="1258920" y="4724280"/>
            <a:ext cx="1473120" cy="172728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34" name="Picture 8" descr="antibiotici"/>
          <p:cNvPicPr/>
          <p:nvPr/>
        </p:nvPicPr>
        <p:blipFill>
          <a:blip r:embed="rId3"/>
          <a:stretch/>
        </p:blipFill>
        <p:spPr>
          <a:xfrm>
            <a:off x="1116000" y="1268280"/>
            <a:ext cx="1569960" cy="11750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400"/>
                            </p:stCondLst>
                            <p:childTnLst>
                              <p:par>
                                <p:cTn id="2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4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4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7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4700"/>
                            </p:stCondLst>
                            <p:childTnLst>
                              <p:par>
                                <p:cTn id="3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700"/>
                            </p:stCondLst>
                            <p:childTnLst>
                              <p:par>
                                <p:cTn id="3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9800"/>
                            </p:stCondLst>
                            <p:childTnLst>
                              <p:par>
                                <p:cTn id="3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3500"/>
                            </p:stCondLst>
                            <p:childTnLst>
                              <p:par>
                                <p:cTn id="3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7200"/>
                            </p:stCondLst>
                            <p:childTnLst>
                              <p:par>
                                <p:cTn id="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137880"/>
            <a:ext cx="760104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ИНДИКАЦИЈЕ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ЗА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600"/>
            </a:b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ПРИМЕНУ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sr-CS" sz="3600" spc="-1" strike="noStrike">
                <a:solidFill>
                  <a:srgbClr val="ffff66"/>
                </a:solidFill>
                <a:latin typeface="Arial"/>
              </a:rPr>
              <a:t>АНТИБИО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280" y="1584000"/>
            <a:ext cx="817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клад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и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инципим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описивањ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тибиотик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д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2565360"/>
            <a:ext cx="795672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1880" indent="-3718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акутн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улцеронекрозн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гингивитис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ародонт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ародонталн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апсц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мултипн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ародонталн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апсцес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код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дијабетич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рефракторна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ародонтопатија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код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ацијената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не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реагуј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базичн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ерапиј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агресивна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ародонт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остхируршк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ретман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као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ремедикација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медицинск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компромитованих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ациј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2:24:57Z</dcterms:created>
  <dc:creator>Pejca</dc:creator>
  <dc:description/>
  <cp:keywords/>
  <dc:language>en-US</dc:language>
  <cp:lastModifiedBy>Corporate Edition</cp:lastModifiedBy>
  <dcterms:modified xsi:type="dcterms:W3CDTF">2016-01-28T16:50:09Z</dcterms:modified>
  <cp:revision>168</cp:revision>
  <dc:subject/>
  <dc:title>ANTIBIOTICI  U  TERAPIJI PARODONTOPAT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081033</vt:lpwstr>
  </property>
</Properties>
</file>